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GRATED ACADEMIC STUIDES OF MEDICINE</a:t>
            </a:r>
            <a:endParaRPr b="0" lang="en-US" sz="2400" spc="-1" strike="noStrike">
              <a:solidFill>
                <a:srgbClr val="000000"/>
              </a:solidFill>
              <a:latin typeface="Arial"/>
            </a:endParaRPr>
          </a:p>
        </p:txBody>
      </p:sp>
      <p:sp>
        <p:nvSpPr>
          <p:cNvPr id="4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ject: Englis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r: Dusica Obradovi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betes Mellitus</a:t>
            </a:r>
            <a:endParaRPr b="0" lang="en-US" sz="2400" spc="-1" strike="noStrike">
              <a:solidFill>
                <a:srgbClr val="000000"/>
              </a:solidFill>
              <a:latin typeface="Arial"/>
            </a:endParaRPr>
          </a:p>
        </p:txBody>
      </p:sp>
      <p:sp>
        <p:nvSpPr>
          <p:cNvPr id="4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lative or absolute deficiency of insulin results in the disease diabetes mellitus, by far the most common disorder of the endocrine system. The number of individuals with diabetes doubles every 15 years. While insulin, discovered by Banting and Best in 1921, can prevent early death from diabetic coma, insulin treatment does not prevent the chronic, disabling complications of the disease. Statisticians list diabetes mellitus among the top 10 causes of death in the United States, for example, and cite it as the leading cause of blindness and uremia.</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e United States, the National Institute of Health has classified diabetes into a number of types....................</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st of the lesson can be found in the textbook “English for Students of Medicine” by Dusica Lazic</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ds to remember:</a:t>
            </a:r>
            <a:endParaRPr b="0" lang="en-US" sz="2400" spc="-1" strike="noStrike">
              <a:solidFill>
                <a:srgbClr val="000000"/>
              </a:solidFill>
              <a:latin typeface="Arial"/>
            </a:endParaRPr>
          </a:p>
        </p:txBody>
      </p:sp>
      <p:sp>
        <p:nvSpPr>
          <p:cNvPr id="4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rem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ogeno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yperglycemia</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cellaneo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mochromato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ncreatit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hing’s diseas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st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r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tos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idosi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rehension and discussion questions:</a:t>
            </a:r>
            <a:endParaRPr b="0" lang="en-US" sz="2400" spc="-1" strike="noStrike">
              <a:solidFill>
                <a:srgbClr val="000000"/>
              </a:solidFill>
              <a:latin typeface="Arial"/>
            </a:endParaRPr>
          </a:p>
        </p:txBody>
      </p:sp>
      <p:sp>
        <p:nvSpPr>
          <p:cNvPr id="46"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diabetes mellit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many types of diabetes are known toda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insulin-dependent diabetes mellit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diabetes mellitus type I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econdary diabe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recovery from diabetes without treatment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causes of diabe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s diabetes mellitus determin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treatment of diabetes mellit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medications in the form of oral hypoglycemic agents used in treating diabete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prefixes IM-, IN-, UN-, and NON-, to form words opposite in meaning:</a:t>
            </a:r>
            <a:endParaRPr b="0" lang="en-US" sz="2400" spc="-1" strike="noStrike">
              <a:solidFill>
                <a:srgbClr val="000000"/>
              </a:solidFill>
              <a:latin typeface="Arial"/>
            </a:endParaRPr>
          </a:p>
        </p:txBody>
      </p:sp>
      <p:sp>
        <p:nvSpPr>
          <p:cNvPr id="48" name=""/>
          <p:cNvSpPr txBox="1"/>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enera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mm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senti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ibuto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cept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ista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ica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t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bl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ert the missing prepositions:</a:t>
            </a:r>
            <a:endParaRPr b="0" lang="en-US" sz="2400" spc="-1" strike="noStrike">
              <a:solidFill>
                <a:srgbClr val="000000"/>
              </a:solidFill>
              <a:latin typeface="Arial"/>
            </a:endParaRPr>
          </a:p>
        </p:txBody>
      </p:sp>
      <p:sp>
        <p:nvSpPr>
          <p:cNvPr id="50"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has been sick for some time but we hope that he’ll recover...................that disease.</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careful with this patient; she is allergic.....................penicillin.</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ently, she has cut...............sweets and succeeded.................losing weigh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have problem with your heart, you must screen.....................hypertension.</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ctors should point.......................the importance of early treatment.....................this disorder.</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had a terrible backache yesterday but he also complained.................pain ...................the ches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ought to relax; you are........................stress all the time.</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the parts of the sentence in the right order:</a:t>
            </a:r>
            <a:endParaRPr b="0" lang="en-US" sz="2400" spc="-1" strike="noStrike">
              <a:solidFill>
                <a:srgbClr val="000000"/>
              </a:solidFill>
              <a:latin typeface="Arial"/>
            </a:endParaRPr>
          </a:p>
        </p:txBody>
      </p:sp>
      <p:sp>
        <p:nvSpPr>
          <p:cNvPr id="52"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ural system/the body/against/disease/has/own/its/of/defenc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stand/the patient/the risks/of/must/to/no treatment/be helpe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ter/diseases/spread/some/through/may b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treatment/diabetes/if/on time/usually/is diagnosed/successful/i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rvousness/belong/excessive sweating/to/hyperthyroidism/weight loss/and/signs/of/the most common)</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physical skill/can be/relaxation/psychological/which/useful/ overcoming/is/in/stress)</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lking points:</a:t>
            </a:r>
            <a:endParaRPr b="0" lang="en-US" sz="2400" spc="-1" strike="noStrike">
              <a:solidFill>
                <a:srgbClr val="000000"/>
              </a:solidFill>
              <a:latin typeface="Arial"/>
            </a:endParaRPr>
          </a:p>
        </p:txBody>
      </p:sp>
      <p:sp>
        <p:nvSpPr>
          <p:cNvPr id="54" name="PlaceHolder 2"/>
          <p:cNvSpPr>
            <a:spLocks noGrp="1"/>
          </p:cNvSpPr>
          <p:nvPr>
            <p:ph/>
          </p:nvPr>
        </p:nvSpPr>
        <p:spPr>
          <a:xfrm>
            <a:off x="457200" y="2287080"/>
            <a:ext cx="8229600" cy="45262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betes mellitus – causes, symptoms and treat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ypes of diabetes mellitu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ention of diabetes mellitu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Dusica Lazic</cp:lastModifiedBy>
  <dcterms:modified xsi:type="dcterms:W3CDTF">2023-09-12T10:18:26Z</dcterms:modified>
  <cp:revision>24</cp:revision>
  <dc:subject/>
  <dc:title>Slide 1</dc:title>
</cp:coreProperties>
</file>